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1F1-BF32-4DF0-97AD-A4D26E47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DE6-B777-45BF-A7D1-9C67632C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FDC-2AA3-4C3D-98B9-77186756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EF9-DC45-4CB4-86AF-328EA346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73F-0449-4AD7-8330-7FF7FCD0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D3D0-A619-45DA-85F5-5BCC64B9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EF1-3C87-4B36-9A9F-E3C9D487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B54-609F-47CD-B86F-D5ED4BA4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807-49B7-4359-83D3-20A2E4BB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BF2-FAE7-4FB8-A86B-A28870F8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C67-ED92-49B8-8504-47967989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A4F-7B0E-4B0E-A4A2-75C919F9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aixa1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-Bold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F3EF-EBF0-41F5-9763-15CA4A715C4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faixa3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idades.gov.br/ministerio-das-cidades/sistematica-2007/sistematica-2008/ManualFNHISPlanosHabitacionais2008.pd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44" name="Picture 4" descr="faixa curso plano hab"/>
          <p:cNvPicPr/>
          <p:nvPr/>
        </p:nvPicPr>
        <p:blipFill>
          <a:blip r:embed="rId1"/>
          <a:stretch/>
        </p:blipFill>
        <p:spPr>
          <a:xfrm>
            <a:off x="0" y="0"/>
            <a:ext cx="9144000" cy="4159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logos Plano Hab"/>
          <p:cNvPicPr/>
          <p:nvPr/>
        </p:nvPicPr>
        <p:blipFill>
          <a:blip r:embed="rId2"/>
          <a:stretch/>
        </p:blipFill>
        <p:spPr>
          <a:xfrm>
            <a:off x="0" y="5408640"/>
            <a:ext cx="9144000" cy="1449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1979640" y="4437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rutiger-Bold"/>
              </a:rPr>
              <a:t>São Paulo, 19 e 20 de junho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Frutiger-Bold"/>
              </a:rPr>
              <a:t>PLHIS – diretrizes manual do FNHIS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1 - Proposta metodológica de trabalho</a:t>
            </a: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2 - Diagnóstico do Setor Habitacional</a:t>
            </a: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3 – Estratégias de Ação</a:t>
            </a: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1 - Proposta metodológica de trabalho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a) Elaborar Plano de trabalho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etapas,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prazos,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responsabilidades da equipe de trabalho municipal e dos consultores,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mecanismos de participação,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mecanismos de publicidade e o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cronograma de discussão com a sociedade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b) Proposta metodológica - 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deve ser pactuada com a sociedade e com o Conselho Gestor do Fundo Local de Habitação de Interesse Social quando este existir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5940360" y="5157720"/>
            <a:ext cx="302256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atação de consultor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2 - Diagnóstico do Setor Habitacional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)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inserção regional e características do município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b) atores sociais e suas capacidades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) necessidades habitacionais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d) oferta habitacional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e) marcos regulatórios e legais existentes, a ser modificados ou elaborados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f) condições institucional e administrativa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g) programas e ações identificando quem os promove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h) recursos para financiamento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Leitura técnica e participativa do problema da habitação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39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Note que para a elaboração de um bom diagnóstico é preciso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conhecer a realidade local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. Se a prefeitura ou o estado não dispuser de informações, a equipe contratada e o órgão público contratante deverão identificar as informações essenciais a serem coletadas em campo ou elaboradas a partir de dados secundários, mapas e fotos aéreas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As informações sobre os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assentamentos precário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colhidas localmente são sempre mais adequadas do que aquelas elaboradas a partir dos dados secundários. Em campo é possível colher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informações qualitativas que permitem estabelecer indicadores de prioridade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O diagnóstico participativo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, elaborado junto com a população, é  fonte importantíssima de levantamento e checagem de informações.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39640" y="6308640"/>
            <a:ext cx="8136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Quem mora na cidade conhe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Frutiger-Bold"/>
              </a:rPr>
              <a:t>3 – Estratégias de ação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3.1 diretrizes e objetivo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3.2 programas e açõe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3.3 metas, recursos e fontes de financiamento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3.4 indicadore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3.5 monitoramento, avaliação e revisão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Formulando uma estratégia para enfrentar o problema habitaciona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435880" cy="3168360"/>
          </a:xfrm>
          <a:prstGeom prst="rect">
            <a:avLst/>
          </a:prstGeom>
          <a:solidFill>
            <a:srgbClr val="ff9900">
              <a:alpha val="63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Cabe aos planos definir uma estratégia local de equacionamento do problema, num nível de detalhamento indispensável para estabelecer metas, prioridades e cronogramas de implementação do programa habitacional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PLHIS: conteúdo 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Diretrizes e objetivos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que queremos atingir com o Plan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Diagnóstico do setor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(necessidades, oferta, insumos, base legal, condições institucionais e administrativas, recursos)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Prazo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de vigência do plan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Implementação:</a:t>
            </a: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programas e açõe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Metas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físicas, financeiras, normativas, institucionais  </a:t>
            </a:r>
            <a:r>
              <a:rPr b="0" lang="pt-BR" sz="2800" spc="-1" strike="noStrike">
                <a:solidFill>
                  <a:srgbClr val="ff0000"/>
                </a:solidFill>
                <a:latin typeface="Frutiger 55 Roman"/>
              </a:rPr>
              <a:t>x 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Prioridade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Monitoramento e avaliaçã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Frutiger-Bold"/>
              </a:rPr>
              <a:t>Implementação:</a:t>
            </a: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programas e ações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COM RECURSOS DO FNHIS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I – aquisição, construção, conclusão, melhoria, reforma, locação social e arrendamento de unidades habitacionais em áreas urbanas e rurais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II – produção de lotes urbanizados para fins habitacionais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III – urbanização, produção de equipamentos comunitários, regularização fundiária e urbanística de áreas caracterizadas de interesse social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IV – implantação de saneamento básico, infra-estrutura e equipamentos urbanos, complementares aos programas habitacionais de interesse social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V – aquisição de materiais para construção, ampliação e reforma de moradias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VI – recuperação ou produção de imóveis em áreas encortiçadas ou deterioradas, centrais ou periféricas, para fins habitacionais de interesse social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VII – outros programas e intervenções na forma aprovada pelo Conselho Gestor do FNHIS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Metas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Relação entre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Necessidades/ demanda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Custo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Recursos existente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Potencialidades (agentes, outras)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Restrições ( fundiárias, institucionais,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Estratégias ( prioridades, ação no tempo)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8" descr=""/>
          <p:cNvPicPr/>
          <p:nvPr/>
        </p:nvPicPr>
        <p:blipFill>
          <a:blip r:embed="rId1"/>
          <a:stretch/>
        </p:blipFill>
        <p:spPr>
          <a:xfrm>
            <a:off x="4643280" y="44280"/>
            <a:ext cx="4426200" cy="3321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0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413240" cy="329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2" descr=""/>
          <p:cNvPicPr/>
          <p:nvPr/>
        </p:nvPicPr>
        <p:blipFill>
          <a:blip r:embed="rId3"/>
          <a:stretch/>
        </p:blipFill>
        <p:spPr>
          <a:xfrm>
            <a:off x="73080" y="3502080"/>
            <a:ext cx="4411440" cy="3311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4" descr=""/>
          <p:cNvPicPr/>
          <p:nvPr/>
        </p:nvPicPr>
        <p:blipFill>
          <a:blip r:embed="rId4"/>
          <a:stretch/>
        </p:blipFill>
        <p:spPr>
          <a:xfrm>
            <a:off x="74520" y="44280"/>
            <a:ext cx="4426200" cy="33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faixa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158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7777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 55 Roman"/>
              </a:rPr>
              <a:t>Os Componentes Básicos do </a:t>
            </a:r>
            <a:endParaRPr b="0" lang="en-US" sz="3600" spc="-1" strike="noStrike">
              <a:solidFill>
                <a:srgbClr val="000000"/>
              </a:solidFill>
              <a:latin typeface="Frutiger 55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 55 Roman"/>
              </a:rPr>
              <a:t>Plano Municipal de Habitação</a:t>
            </a:r>
            <a:endParaRPr b="0" lang="en-US" sz="36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258920" y="371628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q. Dra. Rossella Rossetto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ultora Instituto Via Pública e Casa da 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Metas PHIS de Salvador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A definição das metas do Plano Municipal de Habitação foi estabelecida, seguindo os seguintes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passos metodológico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a)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Cálculo dos custo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para o enfrentamento global das necessidades habitacionais, incluindo a produção de novas unidades, a urbanização de assentamentos precários e a regularização fundiária; 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b)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Segmentação da necessidade de novas moradia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, excluindo a parcela que poderá ser atendida pelo mercado e a que pode ser equacionada com autofinanciamento e autopromoção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c)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Cálculo da disponibilidade de recurso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no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prazo temporal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do Plano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d) Estabelecimento das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metas física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de produção de nova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unidades, considerando as restrições financeiras, fundiárias e institucionais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e) Estabelecimento das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metas físicas relacionadas à regularização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e à urbanização de assentamentos precários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f) Estabelecimento das </a:t>
            </a:r>
            <a:r>
              <a:rPr b="1" lang="pt-BR" sz="2000" spc="-1" strike="noStrike">
                <a:solidFill>
                  <a:srgbClr val="000000"/>
                </a:solidFill>
                <a:latin typeface="Frutiger 55 Roman"/>
              </a:rPr>
              <a:t>metas urbanas e normativa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do plano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900000" y="6453360"/>
            <a:ext cx="482436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ww.sehab.salvador.ba.gov.br/Publicac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Frutiger-Bold"/>
              </a:rPr>
              <a:t>Metas PHIS de Salvador:</a:t>
            </a:r>
            <a:br>
              <a:rPr sz="3400"/>
            </a:br>
            <a:r>
              <a:rPr b="0" lang="pt-BR" sz="3400" spc="-1" strike="noStrike">
                <a:solidFill>
                  <a:srgbClr val="ffffff"/>
                </a:solidFill>
                <a:latin typeface="Frutiger-Bold"/>
              </a:rPr>
              <a:t>passo 1 - custos</a:t>
            </a:r>
            <a:endParaRPr b="0" lang="en-US" sz="34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675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1341360"/>
          <a:ext cx="8675640" cy="5078520"/>
        </p:xfrm>
        <a:graphic>
          <a:graphicData uri="http://schemas.openxmlformats.org/drawingml/2006/table">
            <a:tbl>
              <a:tblPr/>
              <a:tblGrid>
                <a:gridCol w="2892240"/>
                <a:gridCol w="2000520"/>
                <a:gridCol w="378288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Tipo de açã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usto médio unitários em reais (set./20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ferênci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Lotes urbanizad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.660,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Sem os custos de proje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rowSpan="2"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Unidades habitacionais nov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4.973,2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Programa Crédito Solidário. Unidade habitacional sem custos de projeto, urbanização e terre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0.296,4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UH Programa de Arrendamento Residencial – PA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Unidades habitacionais novas para relocação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3.50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Programa PAT-Prosanear. Projeto de Urbanização Integrada no bairro de São Marcos. Unidade habitacional, padrão apartamento, sem custos de projeto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gularização fundiária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Programa de Regularização: Calabar, Alto das Pombas e Canabrav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Urbanização integrada – sem unidades habitacionais nov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.5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Programa PAT-Prosanear. Projeto de Urbanização Integrada no bairro de São Marcos. Urbanização integrada sem custos de 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Frutiger-Bold"/>
              </a:rPr>
              <a:t>Metas PHIS de Salvador:</a:t>
            </a:r>
            <a:br>
              <a:rPr sz="3400"/>
            </a:br>
            <a:r>
              <a:rPr b="0" lang="pt-BR" sz="3400" spc="-1" strike="noStrike">
                <a:solidFill>
                  <a:srgbClr val="ffffff"/>
                </a:solidFill>
                <a:latin typeface="Frutiger-Bold"/>
              </a:rPr>
              <a:t>passo 2 – disponibilidade de recursos</a:t>
            </a:r>
            <a:endParaRPr b="0" lang="en-US" sz="34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Estabeleceu-se um cenário de quantos recursos poderiam vir da esfera federal para Salvador em 17 anos: 1,3% para produção de novas moradias ( 637 milhões) e 3,2% urbanização de favelas (1,57 bilhões)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Estado da Bahia – contrapartida de 10% dos recursos federais – R$157 milhões para urbanização e R$ 63 milhões para produção = 13 milhões a. a.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Município – terra urbanizada, projetos, trabalho social, equipamentos sociais, serviço de assistencia técnica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539640" y="5157720"/>
            <a:ext cx="799308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Metas PHIS de Salvador: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passo 3 – equacionamento das metas de provis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Mercado privado atenderá população acima de 5 salários mínim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Poder público atenderá (provisão)todas as famílias relocadas de obras de urbanização de assentamentos precári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Recursos totalmente subsidiados atenderão  déficit até 2 s. min. e demanda futura até 1,5 salários mínim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População entre 1,5/2 s. min. recursos de subsídios e financiament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Urbanização integral só surtirá efeito se acompanhada de produção por auto-promoção com assistência técnic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Necessidades de novas moradias ( relocação/ deficit e demanda futura) 358 mil domicílios até 2025= R$4,1 bilhõe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Frutiger-Bold"/>
              </a:rPr>
              <a:t>Salvador: metas atendimento ao deficit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16000" y="1403280"/>
            <a:ext cx="8820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Participação é a chave do sucesso de um plano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3284280"/>
            <a:ext cx="7993080" cy="259236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Nossa experiência pessoal mostra que quando as prioridades são estabelecidas junto com a comunidade, o Plano ganha apoio e respaldo público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826920" y="1700280"/>
            <a:ext cx="8066160" cy="18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ta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rão ser acompanhadas pela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ioridades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ação e  estabelecidas com prazos parciais e finais de cump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Prever indicadores que permita </a:t>
            </a: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avaliar o desempenho 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dos programas criando informações que permitam re-alimentar e, se for necessário, alterar o plano em função dos acertos e erros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060800"/>
          </a:xfrm>
          <a:prstGeom prst="rect">
            <a:avLst/>
          </a:prstGeom>
          <a:solidFill>
            <a:srgbClr val="bbe0e3">
              <a:alpha val="8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Mesmo que não disponhamos de todas as informações, que as condições adequadas não estejam dadas, ou que tenhamos que acertá-lo enquanto o executamos, o PLANO DE HABITAÇÃO será o resultado de um trabalho técnico com respaldo da sociedade, que indicará o que fazer, por onde começar e estabelecerá as etapas de trabalho - enfim, dará uma direção para que possamos por a mão na massa e conseguir alterar a realidade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Plano Nacional de Habitação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Frutiger 55 Roman"/>
              </a:rPr>
              <a:t>função</a:t>
            </a:r>
            <a:r>
              <a:rPr b="0" lang="pt-BR" sz="2600" spc="-1" strike="noStrike">
                <a:solidFill>
                  <a:srgbClr val="000000"/>
                </a:solidFill>
                <a:latin typeface="Frutiger 55 Roman"/>
              </a:rPr>
              <a:t> de planejar as ações públicas e privadas, </a:t>
            </a:r>
            <a:endParaRPr b="0" lang="en-US" sz="26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Frutiger 55 Roman"/>
              </a:rPr>
              <a:t>planejamento</a:t>
            </a:r>
            <a:r>
              <a:rPr b="0" lang="pt-BR" sz="2600" spc="-1" strike="noStrike">
                <a:solidFill>
                  <a:srgbClr val="000000"/>
                </a:solidFill>
                <a:latin typeface="Frutiger 55 Roman"/>
              </a:rPr>
              <a:t> de médio e longo prazos, </a:t>
            </a:r>
            <a:endParaRPr b="0" lang="en-US" sz="26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Frutiger 55 Roman"/>
              </a:rPr>
              <a:t>horizonte temporal </a:t>
            </a: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2023 </a:t>
            </a:r>
            <a:r>
              <a:rPr b="0" lang="pt-BR" sz="2600" spc="-1" strike="noStrike">
                <a:solidFill>
                  <a:srgbClr val="000000"/>
                </a:solidFill>
                <a:latin typeface="Frutiger 55 Roman"/>
              </a:rPr>
              <a:t>(4 PPAs)</a:t>
            </a:r>
            <a:endParaRPr b="0" lang="en-US" sz="26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1" lang="pt-BR" sz="2600" spc="-1" strike="noStrike">
                <a:solidFill>
                  <a:srgbClr val="000000"/>
                </a:solidFill>
                <a:latin typeface="Frutiger 55 Roman"/>
              </a:rPr>
              <a:t>propósito de formular uma estratégia para enfrentar as necessidades habitacionais do país, direcionando, da melhor maneira possível, os recursos existentes e a serem mobilizados.</a:t>
            </a:r>
            <a:endParaRPr b="0" lang="en-US" sz="26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52" name="Picture 4" descr="faixa3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516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Identificar de fontes de recursos perenes e estáveis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- recursos para financiamento habitacional (retornáveis ao agente financeiro)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- recursos para subsídios, (que não prevê retorno - a fundo perdido);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Estabelecer a forma de articulação dos recursos 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dos </a:t>
            </a: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três níveis de governo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 na implementação dos programas e projetos habitacionais, a partir da atuação dos agentes que aderirem ao Sistema Nacional de Habitação;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Estabelecer metas físicas 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visando à resolução dos problemas identificados;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- 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definidas com base em </a:t>
            </a: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prioridades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deve espelhar o </a:t>
            </a: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perfil do déficit e da demanda futura de habitação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distribuídas no tempo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Estabelecer metas financeiras 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com o objetivo de </a:t>
            </a: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dirigir recursos para as prioridades de atendimento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, considerando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- as características das fontes de recursos (onerosas e não onerosas),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- os custos de produtos habitacionais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- capacidade de pagamento da população;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116000" y="404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Plano Nacional de Habi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Frutiger-Bold"/>
              </a:rPr>
              <a:t>Plano Nacional de Habitação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Desenvolver outros critérios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, além da renda familiar, para </a:t>
            </a: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definir a faixa prioritária de atendimento e a indicação de grupos conforme sua capacidade de pagamento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 em relação aos custos de financiamento das diferentes fontes de recursos;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Propor a articulação institucional 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do conjunto de atores públicos, privados e demais agentes sociais afetos ao setor habitacional, a partir do Sistema Nacional de Habitação (SNH), de forma a garantir que possam cumprir seus papéis na implementação do PlanHab;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Formular os mecanismos e instrumentos 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de regulamentação e fomento à </a:t>
            </a: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produção de mercado e ampliação da cadeia produtiva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Articular os programas 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de caráter nacional e linhas de financiamento nas quais sejam consideradas as diversas fontes de recursos a serem utilizadas;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Criar as bases para a montagem de um </a:t>
            </a: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sistema de monitoramento e avaliação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 55 Roman"/>
              </a:rPr>
              <a:t>Orientar a elaboração dos planos </a:t>
            </a: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habitacionais de âmbitos estadual e municipal.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SNH - adesão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Sistema Nacional de Habitação Interesse Social (SNHIS)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Lei Federal n° 11.124 de junho de 2005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Para pleitear recursos do FNHIS Estados e Municípios devem aderir ao SNHIS  - adesão voluntária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99"/>
                </a:solidFill>
                <a:latin typeface="Frutiger 55 Roman"/>
              </a:rPr>
              <a:t>Até o momento a adesão todos os estados e de 4.304 municípios, 77% do total de municípios existentes no país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SNH - adesão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Inicialmente bastou comprometer-se a: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criar Fundo,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Conselho de Habitação e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elaborar Plano Municipal de Habitação.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99"/>
                </a:solidFill>
                <a:latin typeface="Frutiger 55 Roman"/>
              </a:rPr>
              <a:t>Até março deste ano, 142 municípios haviam enviado ao Ministério cópia da lei de criação do FHIS e apenas 7 concluíram o Plano Habitacional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Frutiger 55 Roman"/>
              </a:rPr>
              <a:t>O NÃO CUMPRIMENTO DAS OBRIGAÇÕES PACTUADAS NO TERMO DE ADESÃO INVIABILIZARÁ O ACESSO AOS RECURSOS DE 2009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99"/>
                </a:solidFill>
                <a:latin typeface="Frutiger 55 Roman"/>
              </a:rPr>
              <a:t>Qual a situação do seu Município? Você vê interesse para o Estado e Município em aderir ao SNHIS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Planos estaduais e municipai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O PlanHab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- metas nacionais, recursos, modelo de financiamento e subsídios, desenho institucional, deverão servir de </a:t>
            </a: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parâmetros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para uma grande parte das questões a serem elaboradas nos planos estaduais e municipais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Sistema Nacional de Habitação de Interesse Social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está em implantação e exige a elaboração de planos locais para que estados e municípios possam acessar os recursos do FNHIS anualmente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PLHIS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linha de recursos no FNHIS de apoio à elaboração de planos locais de habitação de interesse social e o manual define alguns conteúdo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Frutiger 55 Roman"/>
              </a:rPr>
              <a:t>Veja em detalhes as orientações do Ministério das Cidades (Manual 2007-08) in 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Frutiger 55 Roman"/>
                <a:hlinkClick r:id="rId1"/>
              </a:rPr>
              <a:t>http://www.cidades.gov.br/ministerio-das-cidades/sistematica-2007/sistematica-2008/ManualFNHISPlanosHabitacionais2008.pdf</a:t>
            </a:r>
            <a:r>
              <a:rPr b="0" lang="en-US" sz="28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9:09:27Z</dcterms:created>
  <dc:creator>Pollini</dc:creator>
  <dc:description/>
  <dc:language>en-US</dc:language>
  <cp:lastModifiedBy>Kazuo</cp:lastModifiedBy>
  <dcterms:modified xsi:type="dcterms:W3CDTF">2008-06-19T18:56:39Z</dcterms:modified>
  <cp:revision>30</cp:revision>
  <dc:subject/>
  <dc:title>Slide 1</dc:title>
</cp:coreProperties>
</file>